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1F1F3-B926-4BF1-9865-B73A8FA72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A8D33-1678-429F-920F-830E36F27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F3ED5-3691-4E24-B7C6-A9E7F88FA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56123-CBFC-4BB4-974A-E6F3741E5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4DE55-ADD4-4089-A9BE-7BED0F081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213DE-C718-486E-A444-65615C197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8E374-B077-48CC-9773-E75A7D436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32527-DD8B-48F6-A5BD-8A9A99192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068DC-AEAB-4F9E-B5DB-F347C934E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932F2-A4D1-46C4-95E6-510F95D11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BB162-130B-4524-B1F9-234EFC757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87306-570E-459A-ACAA-3901613F8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4D524-44C1-4D1F-96EF-030716177B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594360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ls se balancent dans le par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648320" y="914400"/>
            <a:ext cx="4724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ls jouent dans le par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228600"/>
            <a:ext cx="8305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Il sort de sa mais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80880" y="0"/>
            <a:ext cx="87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Ours en ville a dit bonjour à son am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0T16:58:36Z</dcterms:created>
  <dc:creator>CVJH-LAB</dc:creator>
  <dc:description/>
  <dc:language>en-US</dc:language>
  <cp:lastModifiedBy>nield411</cp:lastModifiedBy>
  <dcterms:modified xsi:type="dcterms:W3CDTF">2008-02-27T04:41:08Z</dcterms:modified>
  <cp:revision>5</cp:revision>
  <dc:subject/>
  <dc:title> </dc:title>
</cp:coreProperties>
</file>